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488-F531-4907-8677-73A330EA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C4E-6309-43B8-BC70-70E022DA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D5C-F37C-4473-905B-44BA7FF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883-D650-4CCB-B886-7BB6FF51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3AE1-53E2-4B21-88DB-1FF5F5A9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7F1D-22E5-4391-8DE8-663488C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65EC-2D06-4A63-80D6-EF0E5309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DFE3-A637-4526-9BFF-CAB9622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6722-170C-407C-AE79-7B25471C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CFDA-0740-4607-B264-1E98E56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AE5C-4069-482C-A328-1BE3AFE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BF1-5E8D-439E-AEAC-CF236D3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348B-1D0A-4E30-99F1-7B2FCC3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0193-D4E3-40C7-B976-08CF0946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EAB9-DBD8-47E1-97F5-FBC30A2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E0BF-E4D3-4B3E-8971-EBB769AB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C33A-7B43-4D33-BB02-BCC8227C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7D2-31A6-4EB1-BA3A-6691E4B5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5A5-FE11-4C7E-881F-B14F7DF6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04B-861B-4F3C-BFA4-A93F3D80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3FD-9937-4860-870B-E16BA692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81F-4E7B-48FC-ADCD-713EEC1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5185-4D43-4BA3-8149-33B8E18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B32-F9F0-4193-91F7-3CA2F70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E461-437B-48F7-8738-1947CB3301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1E84-4DF8-4FC4-B7CF-3130C3A6BF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Divided Kingdom</a:t>
            </a:r>
            <a:br>
              <a:rPr sz="4800"/>
            </a:br>
            <a:r>
              <a:rPr b="0" i="1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rter 6, Lesson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15:16 – 16:14; 2 Chron. 14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ges 15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To D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Has Divided:  Israel and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= Israel  (10 Trib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= Judah (2 Trib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oboam Established Idol Religion In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le Division is Corrupt from top to bot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Wavers With Good and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ings of Israel and Jud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oboam 17 yrs (Ev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jam – 3 yrs (Evi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a – 41 yrs 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oboam 1 – 22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ab – 2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asha- 24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40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562720" y="838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rael – Northern 10 T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243828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ah – Southern 2 Tri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37920" y="1219320"/>
            <a:ext cx="3124440" cy="19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752480" y="2743200"/>
            <a:ext cx="3810240" cy="1676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938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380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ra the Cushite Invades 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486400" y="2133720"/>
            <a:ext cx="0" cy="2666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 and Judah are delivered from the Ethiopians ( 2 Chron.14:9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asha and Israel – 24 evil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aithful move from Israel to Juda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 Chron. 15: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age of Azariah the Prophet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Chron.15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 Renews the Covenant with God – 1 Kgs.15:9-15; 2 Chron.15:8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 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a’s War With Baasha – 1 Kgs.15:16-22; 2 Chron.16:1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0" y="19051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3:24:07Z</dcterms:created>
  <dc:creator>Terry W. Benton</dc:creator>
  <dc:description/>
  <dc:language>en-US</dc:language>
  <cp:lastModifiedBy>Frank D Vines</cp:lastModifiedBy>
  <dcterms:modified xsi:type="dcterms:W3CDTF">2005-07-12T13:43:50Z</dcterms:modified>
  <cp:revision>2</cp:revision>
  <dc:subject/>
  <dc:title>The Divided Kingdom Till There Was No Remedy</dc:title>
</cp:coreProperties>
</file>